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6649-4675-487D-8DF8-F69BA3F2F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D641-C43B-453B-B881-6D5BA24A7B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959120" y="1295280"/>
            <a:ext cx="2938320" cy="22035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E07D-6315-479E-9FC9-D393872F41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959120" y="1295280"/>
            <a:ext cx="2938320" cy="22035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776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5563-1729-4549-BC67-A5508B96E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50B4-44F5-4B16-B1D2-95A7B083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D466-829E-4492-8099-2181229E2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CC62-DF56-4546-B0CB-F0FE776E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1AAB-8B63-4B9F-9C2D-0B506AA7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94D1-28B2-4B9A-B837-BEA5E063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DB06-96A4-4F70-96B6-C2F9BE98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BBFA-7801-4EC7-AE7E-C93E1F3F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7117-445B-41AE-9D90-84F5AC6E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9DE0-2AEA-42BA-834B-0D6DE89E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C689-A8C7-4ECE-9E5A-7364AFD7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A071-020F-4F68-A6F6-8471BC11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028E-5142-4F1A-B9D8-13697F152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80880" y="398520"/>
            <a:ext cx="6564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5000"/>
              <a:buFont typeface="Wingdings" charset="2"/>
              <a:buChar char="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ＤＦＰPOP体"/>
                <a:ea typeface="ＤＦＰPOP体"/>
              </a:rPr>
              <a:t>これまでの自分をふりかえろ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248520" y="325440"/>
            <a:ext cx="28954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　　　　　　　　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2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年　　月　　日（　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氏名  熊本　八代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58560" y="766800"/>
            <a:ext cx="8639280" cy="5668920"/>
            <a:chOff x="358560" y="766800"/>
            <a:chExt cx="8639280" cy="5668920"/>
          </a:xfrm>
        </p:grpSpPr>
        <p:sp>
          <p:nvSpPr>
            <p:cNvPr id="51" name="Rectangle 5"/>
            <p:cNvSpPr/>
            <p:nvPr/>
          </p:nvSpPr>
          <p:spPr>
            <a:xfrm>
              <a:off x="527040" y="766800"/>
              <a:ext cx="8470800" cy="566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6"/>
            <p:cNvSpPr/>
            <p:nvPr/>
          </p:nvSpPr>
          <p:spPr>
            <a:xfrm>
              <a:off x="1546200" y="1503360"/>
              <a:ext cx="0" cy="49320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7"/>
            <p:cNvSpPr/>
            <p:nvPr/>
          </p:nvSpPr>
          <p:spPr>
            <a:xfrm>
              <a:off x="1938960" y="1503360"/>
              <a:ext cx="0" cy="49320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8"/>
            <p:cNvSpPr/>
            <p:nvPr/>
          </p:nvSpPr>
          <p:spPr>
            <a:xfrm>
              <a:off x="2331000" y="1503360"/>
              <a:ext cx="0" cy="49320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9"/>
            <p:cNvSpPr/>
            <p:nvPr/>
          </p:nvSpPr>
          <p:spPr>
            <a:xfrm>
              <a:off x="2723760" y="1503360"/>
              <a:ext cx="0" cy="49320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>
              <a:off x="3507120" y="1503360"/>
              <a:ext cx="0" cy="49320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3114720" y="1503360"/>
              <a:ext cx="0" cy="49320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3899880" y="1503360"/>
              <a:ext cx="0" cy="49320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4683240" y="1503360"/>
              <a:ext cx="0" cy="49320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4"/>
            <p:cNvSpPr/>
            <p:nvPr/>
          </p:nvSpPr>
          <p:spPr>
            <a:xfrm>
              <a:off x="4291920" y="1503360"/>
              <a:ext cx="0" cy="49320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5"/>
            <p:cNvSpPr/>
            <p:nvPr/>
          </p:nvSpPr>
          <p:spPr>
            <a:xfrm>
              <a:off x="5075640" y="1503360"/>
              <a:ext cx="0" cy="49320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6"/>
            <p:cNvSpPr/>
            <p:nvPr/>
          </p:nvSpPr>
          <p:spPr>
            <a:xfrm>
              <a:off x="5468040" y="1503360"/>
              <a:ext cx="0" cy="49320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17"/>
            <p:cNvSpPr/>
            <p:nvPr/>
          </p:nvSpPr>
          <p:spPr>
            <a:xfrm>
              <a:off x="5860800" y="1503360"/>
              <a:ext cx="0" cy="49320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8"/>
            <p:cNvSpPr/>
            <p:nvPr/>
          </p:nvSpPr>
          <p:spPr>
            <a:xfrm>
              <a:off x="6253200" y="1503360"/>
              <a:ext cx="0" cy="49320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6644160" y="1503360"/>
              <a:ext cx="0" cy="49320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7036920" y="1503360"/>
              <a:ext cx="0" cy="49320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7428960" y="1503360"/>
              <a:ext cx="0" cy="49320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>
              <a:off x="7821720" y="1503360"/>
              <a:ext cx="0" cy="49320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23"/>
            <p:cNvSpPr/>
            <p:nvPr/>
          </p:nvSpPr>
          <p:spPr>
            <a:xfrm>
              <a:off x="8212320" y="1503360"/>
              <a:ext cx="0" cy="49320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24"/>
            <p:cNvSpPr/>
            <p:nvPr/>
          </p:nvSpPr>
          <p:spPr>
            <a:xfrm>
              <a:off x="8605080" y="1503360"/>
              <a:ext cx="0" cy="49320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527040" y="1503360"/>
              <a:ext cx="847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527040" y="1870560"/>
              <a:ext cx="847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>
              <a:off x="527040" y="3269160"/>
              <a:ext cx="847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>
              <a:off x="527040" y="4374360"/>
              <a:ext cx="847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9"/>
            <p:cNvSpPr/>
            <p:nvPr/>
          </p:nvSpPr>
          <p:spPr>
            <a:xfrm>
              <a:off x="527040" y="5552640"/>
              <a:ext cx="847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30"/>
            <p:cNvSpPr/>
            <p:nvPr/>
          </p:nvSpPr>
          <p:spPr>
            <a:xfrm>
              <a:off x="541080" y="1868760"/>
              <a:ext cx="362880" cy="139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元気度・満足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31"/>
            <p:cNvSpPr/>
            <p:nvPr/>
          </p:nvSpPr>
          <p:spPr>
            <a:xfrm>
              <a:off x="358560" y="3268080"/>
              <a:ext cx="545400" cy="11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担当した仕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32"/>
            <p:cNvSpPr/>
            <p:nvPr/>
          </p:nvSpPr>
          <p:spPr>
            <a:xfrm>
              <a:off x="358560" y="4374360"/>
              <a:ext cx="545400" cy="11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身につけた能力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>
              <a:off x="1111320" y="2521080"/>
              <a:ext cx="7843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34"/>
            <p:cNvSpPr/>
            <p:nvPr/>
          </p:nvSpPr>
          <p:spPr>
            <a:xfrm>
              <a:off x="840600" y="1868760"/>
              <a:ext cx="39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35"/>
            <p:cNvSpPr/>
            <p:nvPr/>
          </p:nvSpPr>
          <p:spPr>
            <a:xfrm>
              <a:off x="840600" y="2972520"/>
              <a:ext cx="39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－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36"/>
            <p:cNvSpPr/>
            <p:nvPr/>
          </p:nvSpPr>
          <p:spPr>
            <a:xfrm>
              <a:off x="537480" y="1134720"/>
              <a:ext cx="3664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37"/>
            <p:cNvSpPr/>
            <p:nvPr/>
          </p:nvSpPr>
          <p:spPr>
            <a:xfrm>
              <a:off x="527040" y="766800"/>
              <a:ext cx="84708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入庁の理由　　　　　　　　　　　　　　　　　　　　　　　入庁時の夢　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　　　　　　　　　　　　　　　　　　　　　　　　夢の行方　　　　　　　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38"/>
            <p:cNvSpPr/>
            <p:nvPr/>
          </p:nvSpPr>
          <p:spPr>
            <a:xfrm>
              <a:off x="358560" y="5697360"/>
              <a:ext cx="54540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私生活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>
              <a:off x="1111320" y="1503360"/>
              <a:ext cx="0" cy="49320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Text Box 40"/>
          <p:cNvSpPr/>
          <p:nvPr/>
        </p:nvSpPr>
        <p:spPr>
          <a:xfrm>
            <a:off x="527040" y="6583320"/>
            <a:ext cx="847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なたの傾向：＋の要因　　　　　　　　　　　　　　　　　　　　　－の要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1"/>
          <p:cNvSpPr/>
          <p:nvPr/>
        </p:nvSpPr>
        <p:spPr>
          <a:xfrm>
            <a:off x="1184400" y="3490920"/>
            <a:ext cx="20764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●</a:t>
            </a: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　総務部職員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ＭＳ 明朝"/>
              <a:buChar char="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新入社員教育の企画、運営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ＭＳ 明朝"/>
              <a:buChar char="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研修施設の維持・管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3"/>
          <p:cNvSpPr/>
          <p:nvPr/>
        </p:nvSpPr>
        <p:spPr>
          <a:xfrm>
            <a:off x="3666960" y="3417840"/>
            <a:ext cx="15145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rm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ＭＳ 明朝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総務部事務センタ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ＭＳ 明朝"/>
              <a:buChar char="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給与担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・旅費担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ＭＳ 明朝"/>
              <a:buChar char="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庶務担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4"/>
          <p:cNvSpPr/>
          <p:nvPr/>
        </p:nvSpPr>
        <p:spPr>
          <a:xfrm>
            <a:off x="6751800" y="3371760"/>
            <a:ext cx="20811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rm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ＭＳ 明朝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県警本部（出向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ＭＳ 明朝"/>
              <a:buChar char="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各種申請・手続き担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ＭＳ 明朝"/>
              <a:buChar char="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県警施設の管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6"/>
          <p:cNvSpPr/>
          <p:nvPr/>
        </p:nvSpPr>
        <p:spPr>
          <a:xfrm>
            <a:off x="1184400" y="4595760"/>
            <a:ext cx="17524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ビジネスマナ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行政に関する基礎知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仕事の流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研修運営全般の知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7"/>
          <p:cNvSpPr/>
          <p:nvPr/>
        </p:nvSpPr>
        <p:spPr>
          <a:xfrm>
            <a:off x="1257480" y="577368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年おきにアジアに旅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8"/>
          <p:cNvSpPr/>
          <p:nvPr/>
        </p:nvSpPr>
        <p:spPr>
          <a:xfrm>
            <a:off x="4267080" y="5791320"/>
            <a:ext cx="94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結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9"/>
          <p:cNvSpPr/>
          <p:nvPr/>
        </p:nvSpPr>
        <p:spPr>
          <a:xfrm>
            <a:off x="5370480" y="5773680"/>
            <a:ext cx="123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地震でショック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0"/>
          <p:cNvSpPr/>
          <p:nvPr/>
        </p:nvSpPr>
        <p:spPr>
          <a:xfrm>
            <a:off x="3740040" y="4668840"/>
            <a:ext cx="14605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給与知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旅費知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労務管理知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福利厚生の知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1"/>
          <p:cNvSpPr/>
          <p:nvPr/>
        </p:nvSpPr>
        <p:spPr>
          <a:xfrm>
            <a:off x="6707160" y="4606920"/>
            <a:ext cx="17524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各種制度の知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道路交通法の知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運転免許の知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外部関係者との折衝技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reeform 52"/>
          <p:cNvSpPr/>
          <p:nvPr/>
        </p:nvSpPr>
        <p:spPr>
          <a:xfrm>
            <a:off x="1295280" y="2133720"/>
            <a:ext cx="7556760" cy="1096920"/>
          </a:xfrm>
          <a:custGeom>
            <a:avLst/>
            <a:gdLst>
              <a:gd name="textAreaLeft" fmla="*/ 0 w 7556760"/>
              <a:gd name="textAreaRight" fmla="*/ 7557120 w 755676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4584" h="715">
                <a:moveTo>
                  <a:pt x="0" y="0"/>
                </a:moveTo>
                <a:cubicBezTo>
                  <a:pt x="16" y="5"/>
                  <a:pt x="34" y="7"/>
                  <a:pt x="48" y="16"/>
                </a:cubicBezTo>
                <a:cubicBezTo>
                  <a:pt x="64" y="27"/>
                  <a:pt x="96" y="48"/>
                  <a:pt x="96" y="48"/>
                </a:cubicBezTo>
                <a:cubicBezTo>
                  <a:pt x="142" y="117"/>
                  <a:pt x="81" y="36"/>
                  <a:pt x="136" y="80"/>
                </a:cubicBezTo>
                <a:cubicBezTo>
                  <a:pt x="144" y="86"/>
                  <a:pt x="144" y="98"/>
                  <a:pt x="152" y="104"/>
                </a:cubicBezTo>
                <a:cubicBezTo>
                  <a:pt x="159" y="109"/>
                  <a:pt x="169" y="108"/>
                  <a:pt x="176" y="112"/>
                </a:cubicBezTo>
                <a:cubicBezTo>
                  <a:pt x="193" y="121"/>
                  <a:pt x="208" y="133"/>
                  <a:pt x="224" y="144"/>
                </a:cubicBezTo>
                <a:cubicBezTo>
                  <a:pt x="232" y="149"/>
                  <a:pt x="248" y="160"/>
                  <a:pt x="248" y="160"/>
                </a:cubicBezTo>
                <a:cubicBezTo>
                  <a:pt x="292" y="226"/>
                  <a:pt x="234" y="150"/>
                  <a:pt x="288" y="192"/>
                </a:cubicBezTo>
                <a:cubicBezTo>
                  <a:pt x="306" y="206"/>
                  <a:pt x="317" y="227"/>
                  <a:pt x="336" y="240"/>
                </a:cubicBezTo>
                <a:cubicBezTo>
                  <a:pt x="344" y="245"/>
                  <a:pt x="352" y="251"/>
                  <a:pt x="360" y="256"/>
                </a:cubicBezTo>
                <a:cubicBezTo>
                  <a:pt x="417" y="342"/>
                  <a:pt x="328" y="212"/>
                  <a:pt x="400" y="304"/>
                </a:cubicBezTo>
                <a:cubicBezTo>
                  <a:pt x="450" y="369"/>
                  <a:pt x="410" y="337"/>
                  <a:pt x="456" y="368"/>
                </a:cubicBezTo>
                <a:cubicBezTo>
                  <a:pt x="473" y="394"/>
                  <a:pt x="510" y="431"/>
                  <a:pt x="536" y="448"/>
                </a:cubicBezTo>
                <a:cubicBezTo>
                  <a:pt x="553" y="474"/>
                  <a:pt x="577" y="521"/>
                  <a:pt x="600" y="544"/>
                </a:cubicBezTo>
                <a:cubicBezTo>
                  <a:pt x="662" y="606"/>
                  <a:pt x="582" y="531"/>
                  <a:pt x="656" y="584"/>
                </a:cubicBezTo>
                <a:cubicBezTo>
                  <a:pt x="697" y="613"/>
                  <a:pt x="662" y="603"/>
                  <a:pt x="704" y="624"/>
                </a:cubicBezTo>
                <a:cubicBezTo>
                  <a:pt x="753" y="649"/>
                  <a:pt x="801" y="663"/>
                  <a:pt x="856" y="672"/>
                </a:cubicBezTo>
                <a:cubicBezTo>
                  <a:pt x="880" y="688"/>
                  <a:pt x="904" y="696"/>
                  <a:pt x="928" y="712"/>
                </a:cubicBezTo>
                <a:cubicBezTo>
                  <a:pt x="965" y="709"/>
                  <a:pt x="1003" y="710"/>
                  <a:pt x="1040" y="704"/>
                </a:cubicBezTo>
                <a:cubicBezTo>
                  <a:pt x="1092" y="696"/>
                  <a:pt x="1152" y="666"/>
                  <a:pt x="1184" y="624"/>
                </a:cubicBezTo>
                <a:cubicBezTo>
                  <a:pt x="1213" y="587"/>
                  <a:pt x="1219" y="560"/>
                  <a:pt x="1256" y="536"/>
                </a:cubicBezTo>
                <a:cubicBezTo>
                  <a:pt x="1278" y="470"/>
                  <a:pt x="1240" y="572"/>
                  <a:pt x="1312" y="464"/>
                </a:cubicBezTo>
                <a:cubicBezTo>
                  <a:pt x="1339" y="424"/>
                  <a:pt x="1350" y="378"/>
                  <a:pt x="1384" y="344"/>
                </a:cubicBezTo>
                <a:cubicBezTo>
                  <a:pt x="1403" y="286"/>
                  <a:pt x="1454" y="241"/>
                  <a:pt x="1504" y="208"/>
                </a:cubicBezTo>
                <a:cubicBezTo>
                  <a:pt x="1531" y="168"/>
                  <a:pt x="1512" y="189"/>
                  <a:pt x="1568" y="152"/>
                </a:cubicBezTo>
                <a:cubicBezTo>
                  <a:pt x="1576" y="147"/>
                  <a:pt x="1592" y="136"/>
                  <a:pt x="1592" y="136"/>
                </a:cubicBezTo>
                <a:cubicBezTo>
                  <a:pt x="1630" y="78"/>
                  <a:pt x="1576" y="149"/>
                  <a:pt x="1656" y="96"/>
                </a:cubicBezTo>
                <a:cubicBezTo>
                  <a:pt x="1703" y="65"/>
                  <a:pt x="1724" y="49"/>
                  <a:pt x="1776" y="32"/>
                </a:cubicBezTo>
                <a:cubicBezTo>
                  <a:pt x="1792" y="27"/>
                  <a:pt x="1808" y="21"/>
                  <a:pt x="1824" y="16"/>
                </a:cubicBezTo>
                <a:cubicBezTo>
                  <a:pt x="1832" y="13"/>
                  <a:pt x="1848" y="8"/>
                  <a:pt x="1848" y="8"/>
                </a:cubicBezTo>
                <a:cubicBezTo>
                  <a:pt x="1901" y="11"/>
                  <a:pt x="1955" y="9"/>
                  <a:pt x="2008" y="16"/>
                </a:cubicBezTo>
                <a:cubicBezTo>
                  <a:pt x="2018" y="17"/>
                  <a:pt x="2023" y="28"/>
                  <a:pt x="2032" y="32"/>
                </a:cubicBezTo>
                <a:cubicBezTo>
                  <a:pt x="2047" y="39"/>
                  <a:pt x="2066" y="39"/>
                  <a:pt x="2080" y="48"/>
                </a:cubicBezTo>
                <a:cubicBezTo>
                  <a:pt x="2115" y="71"/>
                  <a:pt x="2142" y="97"/>
                  <a:pt x="2176" y="120"/>
                </a:cubicBezTo>
                <a:cubicBezTo>
                  <a:pt x="2231" y="203"/>
                  <a:pt x="2143" y="79"/>
                  <a:pt x="2224" y="160"/>
                </a:cubicBezTo>
                <a:cubicBezTo>
                  <a:pt x="2317" y="253"/>
                  <a:pt x="2212" y="179"/>
                  <a:pt x="2280" y="224"/>
                </a:cubicBezTo>
                <a:cubicBezTo>
                  <a:pt x="2285" y="232"/>
                  <a:pt x="2289" y="241"/>
                  <a:pt x="2296" y="248"/>
                </a:cubicBezTo>
                <a:cubicBezTo>
                  <a:pt x="2303" y="255"/>
                  <a:pt x="2314" y="257"/>
                  <a:pt x="2320" y="264"/>
                </a:cubicBezTo>
                <a:cubicBezTo>
                  <a:pt x="2385" y="339"/>
                  <a:pt x="2322" y="292"/>
                  <a:pt x="2376" y="328"/>
                </a:cubicBezTo>
                <a:cubicBezTo>
                  <a:pt x="2401" y="366"/>
                  <a:pt x="2442" y="414"/>
                  <a:pt x="2480" y="440"/>
                </a:cubicBezTo>
                <a:cubicBezTo>
                  <a:pt x="2485" y="448"/>
                  <a:pt x="2489" y="457"/>
                  <a:pt x="2496" y="464"/>
                </a:cubicBezTo>
                <a:cubicBezTo>
                  <a:pt x="2503" y="471"/>
                  <a:pt x="2514" y="473"/>
                  <a:pt x="2520" y="480"/>
                </a:cubicBezTo>
                <a:cubicBezTo>
                  <a:pt x="2573" y="540"/>
                  <a:pt x="2527" y="520"/>
                  <a:pt x="2576" y="536"/>
                </a:cubicBezTo>
                <a:cubicBezTo>
                  <a:pt x="2594" y="564"/>
                  <a:pt x="2612" y="582"/>
                  <a:pt x="2640" y="600"/>
                </a:cubicBezTo>
                <a:cubicBezTo>
                  <a:pt x="2653" y="640"/>
                  <a:pt x="2640" y="621"/>
                  <a:pt x="2696" y="640"/>
                </a:cubicBezTo>
                <a:cubicBezTo>
                  <a:pt x="2712" y="645"/>
                  <a:pt x="2744" y="656"/>
                  <a:pt x="2744" y="656"/>
                </a:cubicBezTo>
                <a:cubicBezTo>
                  <a:pt x="2818" y="648"/>
                  <a:pt x="2817" y="655"/>
                  <a:pt x="2856" y="608"/>
                </a:cubicBezTo>
                <a:cubicBezTo>
                  <a:pt x="2863" y="599"/>
                  <a:pt x="2873" y="593"/>
                  <a:pt x="2880" y="584"/>
                </a:cubicBezTo>
                <a:cubicBezTo>
                  <a:pt x="2892" y="569"/>
                  <a:pt x="2912" y="536"/>
                  <a:pt x="2912" y="536"/>
                </a:cubicBezTo>
                <a:cubicBezTo>
                  <a:pt x="2932" y="455"/>
                  <a:pt x="2963" y="385"/>
                  <a:pt x="3000" y="312"/>
                </a:cubicBezTo>
                <a:cubicBezTo>
                  <a:pt x="3024" y="264"/>
                  <a:pt x="3050" y="206"/>
                  <a:pt x="3088" y="168"/>
                </a:cubicBezTo>
                <a:cubicBezTo>
                  <a:pt x="3107" y="149"/>
                  <a:pt x="3122" y="152"/>
                  <a:pt x="3144" y="136"/>
                </a:cubicBezTo>
                <a:cubicBezTo>
                  <a:pt x="3196" y="99"/>
                  <a:pt x="3141" y="121"/>
                  <a:pt x="3192" y="104"/>
                </a:cubicBezTo>
                <a:cubicBezTo>
                  <a:pt x="3252" y="124"/>
                  <a:pt x="3262" y="169"/>
                  <a:pt x="3296" y="216"/>
                </a:cubicBezTo>
                <a:cubicBezTo>
                  <a:pt x="3319" y="249"/>
                  <a:pt x="3343" y="274"/>
                  <a:pt x="3360" y="312"/>
                </a:cubicBezTo>
                <a:cubicBezTo>
                  <a:pt x="3376" y="349"/>
                  <a:pt x="3379" y="376"/>
                  <a:pt x="3400" y="408"/>
                </a:cubicBezTo>
                <a:cubicBezTo>
                  <a:pt x="3409" y="445"/>
                  <a:pt x="3427" y="480"/>
                  <a:pt x="3448" y="512"/>
                </a:cubicBezTo>
                <a:cubicBezTo>
                  <a:pt x="3460" y="561"/>
                  <a:pt x="3492" y="598"/>
                  <a:pt x="3520" y="640"/>
                </a:cubicBezTo>
                <a:cubicBezTo>
                  <a:pt x="3525" y="648"/>
                  <a:pt x="3531" y="656"/>
                  <a:pt x="3536" y="664"/>
                </a:cubicBezTo>
                <a:cubicBezTo>
                  <a:pt x="3541" y="672"/>
                  <a:pt x="3552" y="688"/>
                  <a:pt x="3552" y="688"/>
                </a:cubicBezTo>
                <a:cubicBezTo>
                  <a:pt x="3621" y="665"/>
                  <a:pt x="3620" y="614"/>
                  <a:pt x="3632" y="552"/>
                </a:cubicBezTo>
                <a:cubicBezTo>
                  <a:pt x="3639" y="445"/>
                  <a:pt x="3646" y="342"/>
                  <a:pt x="3680" y="240"/>
                </a:cubicBezTo>
                <a:cubicBezTo>
                  <a:pt x="3696" y="193"/>
                  <a:pt x="3701" y="157"/>
                  <a:pt x="3744" y="128"/>
                </a:cubicBezTo>
                <a:cubicBezTo>
                  <a:pt x="3749" y="120"/>
                  <a:pt x="3752" y="109"/>
                  <a:pt x="3760" y="104"/>
                </a:cubicBezTo>
                <a:cubicBezTo>
                  <a:pt x="3774" y="95"/>
                  <a:pt x="3808" y="88"/>
                  <a:pt x="3808" y="88"/>
                </a:cubicBezTo>
                <a:cubicBezTo>
                  <a:pt x="3824" y="93"/>
                  <a:pt x="3840" y="99"/>
                  <a:pt x="3856" y="104"/>
                </a:cubicBezTo>
                <a:cubicBezTo>
                  <a:pt x="3864" y="107"/>
                  <a:pt x="3880" y="112"/>
                  <a:pt x="3880" y="112"/>
                </a:cubicBezTo>
                <a:cubicBezTo>
                  <a:pt x="3885" y="120"/>
                  <a:pt x="3889" y="129"/>
                  <a:pt x="3896" y="136"/>
                </a:cubicBezTo>
                <a:cubicBezTo>
                  <a:pt x="3903" y="143"/>
                  <a:pt x="3914" y="144"/>
                  <a:pt x="3920" y="152"/>
                </a:cubicBezTo>
                <a:cubicBezTo>
                  <a:pt x="3925" y="159"/>
                  <a:pt x="3923" y="169"/>
                  <a:pt x="3928" y="176"/>
                </a:cubicBezTo>
                <a:cubicBezTo>
                  <a:pt x="3934" y="185"/>
                  <a:pt x="3944" y="192"/>
                  <a:pt x="3952" y="200"/>
                </a:cubicBezTo>
                <a:cubicBezTo>
                  <a:pt x="3978" y="279"/>
                  <a:pt x="4023" y="349"/>
                  <a:pt x="4056" y="424"/>
                </a:cubicBezTo>
                <a:cubicBezTo>
                  <a:pt x="4090" y="500"/>
                  <a:pt x="4104" y="624"/>
                  <a:pt x="4176" y="672"/>
                </a:cubicBezTo>
                <a:cubicBezTo>
                  <a:pt x="4204" y="715"/>
                  <a:pt x="4219" y="704"/>
                  <a:pt x="4272" y="696"/>
                </a:cubicBezTo>
                <a:cubicBezTo>
                  <a:pt x="4283" y="680"/>
                  <a:pt x="4298" y="666"/>
                  <a:pt x="4304" y="648"/>
                </a:cubicBezTo>
                <a:cubicBezTo>
                  <a:pt x="4320" y="599"/>
                  <a:pt x="4331" y="547"/>
                  <a:pt x="4360" y="504"/>
                </a:cubicBezTo>
                <a:cubicBezTo>
                  <a:pt x="4378" y="432"/>
                  <a:pt x="4352" y="519"/>
                  <a:pt x="4400" y="424"/>
                </a:cubicBezTo>
                <a:cubicBezTo>
                  <a:pt x="4416" y="391"/>
                  <a:pt x="4428" y="350"/>
                  <a:pt x="4448" y="320"/>
                </a:cubicBezTo>
                <a:cubicBezTo>
                  <a:pt x="4466" y="293"/>
                  <a:pt x="4489" y="270"/>
                  <a:pt x="4504" y="240"/>
                </a:cubicBezTo>
                <a:cubicBezTo>
                  <a:pt x="4529" y="189"/>
                  <a:pt x="4543" y="121"/>
                  <a:pt x="4584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3"/>
          <p:cNvSpPr/>
          <p:nvPr/>
        </p:nvSpPr>
        <p:spPr>
          <a:xfrm>
            <a:off x="1184400" y="1871640"/>
            <a:ext cx="138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入庁できてうれし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4"/>
          <p:cNvSpPr/>
          <p:nvPr/>
        </p:nvSpPr>
        <p:spPr>
          <a:xfrm>
            <a:off x="2133720" y="2666880"/>
            <a:ext cx="131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仕事がマンネリ化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5"/>
          <p:cNvSpPr/>
          <p:nvPr/>
        </p:nvSpPr>
        <p:spPr>
          <a:xfrm>
            <a:off x="3083040" y="2975040"/>
            <a:ext cx="124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異動で一気に不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6"/>
          <p:cNvSpPr/>
          <p:nvPr/>
        </p:nvSpPr>
        <p:spPr>
          <a:xfrm>
            <a:off x="3666960" y="1871640"/>
            <a:ext cx="242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新職場で一丸となって働き、充実感あり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7"/>
          <p:cNvSpPr/>
          <p:nvPr/>
        </p:nvSpPr>
        <p:spPr>
          <a:xfrm>
            <a:off x="1184400" y="1576440"/>
            <a:ext cx="65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２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8"/>
          <p:cNvSpPr/>
          <p:nvPr/>
        </p:nvSpPr>
        <p:spPr>
          <a:xfrm>
            <a:off x="1914480" y="1576440"/>
            <a:ext cx="82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２２　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9"/>
          <p:cNvSpPr/>
          <p:nvPr/>
        </p:nvSpPr>
        <p:spPr>
          <a:xfrm>
            <a:off x="2717640" y="1576440"/>
            <a:ext cx="65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２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0"/>
          <p:cNvSpPr/>
          <p:nvPr/>
        </p:nvSpPr>
        <p:spPr>
          <a:xfrm>
            <a:off x="3521160" y="1576440"/>
            <a:ext cx="65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２６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1"/>
          <p:cNvSpPr/>
          <p:nvPr/>
        </p:nvSpPr>
        <p:spPr>
          <a:xfrm>
            <a:off x="4324320" y="1576440"/>
            <a:ext cx="65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２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2"/>
          <p:cNvSpPr/>
          <p:nvPr/>
        </p:nvSpPr>
        <p:spPr>
          <a:xfrm>
            <a:off x="5127480" y="1576440"/>
            <a:ext cx="65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３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3"/>
          <p:cNvSpPr/>
          <p:nvPr/>
        </p:nvSpPr>
        <p:spPr>
          <a:xfrm>
            <a:off x="5857920" y="1576440"/>
            <a:ext cx="65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３２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4"/>
          <p:cNvSpPr/>
          <p:nvPr/>
        </p:nvSpPr>
        <p:spPr>
          <a:xfrm>
            <a:off x="6661080" y="1576440"/>
            <a:ext cx="65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３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65"/>
          <p:cNvSpPr/>
          <p:nvPr/>
        </p:nvSpPr>
        <p:spPr>
          <a:xfrm>
            <a:off x="7464600" y="1576440"/>
            <a:ext cx="65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３６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6"/>
          <p:cNvSpPr/>
          <p:nvPr/>
        </p:nvSpPr>
        <p:spPr>
          <a:xfrm>
            <a:off x="8194680" y="1576440"/>
            <a:ext cx="65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３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7"/>
          <p:cNvSpPr/>
          <p:nvPr/>
        </p:nvSpPr>
        <p:spPr>
          <a:xfrm>
            <a:off x="6324480" y="1905120"/>
            <a:ext cx="197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複数の申請・手続き担当になり、超多忙。浮き沈みが激しい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9"/>
          <p:cNvSpPr/>
          <p:nvPr/>
        </p:nvSpPr>
        <p:spPr>
          <a:xfrm>
            <a:off x="5105520" y="763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HGS創英角ｺﾞｼｯｸUB"/>
              </a:rPr>
              <a:t>記入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70"/>
          <p:cNvSpPr/>
          <p:nvPr/>
        </p:nvSpPr>
        <p:spPr>
          <a:xfrm>
            <a:off x="304920" y="182880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1"/>
          <p:cNvSpPr/>
          <p:nvPr/>
        </p:nvSpPr>
        <p:spPr>
          <a:xfrm>
            <a:off x="0" y="914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2"/>
          <p:cNvSpPr/>
          <p:nvPr/>
        </p:nvSpPr>
        <p:spPr>
          <a:xfrm>
            <a:off x="14040" y="5638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3"/>
          <p:cNvSpPr/>
          <p:nvPr/>
        </p:nvSpPr>
        <p:spPr>
          <a:xfrm>
            <a:off x="14040" y="3505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74"/>
          <p:cNvSpPr/>
          <p:nvPr/>
        </p:nvSpPr>
        <p:spPr>
          <a:xfrm>
            <a:off x="14040" y="4572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5"/>
          <p:cNvSpPr/>
          <p:nvPr/>
        </p:nvSpPr>
        <p:spPr>
          <a:xfrm>
            <a:off x="14040" y="2286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76"/>
          <p:cNvSpPr/>
          <p:nvPr/>
        </p:nvSpPr>
        <p:spPr>
          <a:xfrm>
            <a:off x="380880" y="76212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77"/>
          <p:cNvSpPr/>
          <p:nvPr/>
        </p:nvSpPr>
        <p:spPr>
          <a:xfrm>
            <a:off x="380880" y="327672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78"/>
          <p:cNvSpPr/>
          <p:nvPr/>
        </p:nvSpPr>
        <p:spPr>
          <a:xfrm>
            <a:off x="380880" y="434340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79"/>
          <p:cNvSpPr/>
          <p:nvPr/>
        </p:nvSpPr>
        <p:spPr>
          <a:xfrm>
            <a:off x="380880" y="54864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80"/>
          <p:cNvSpPr/>
          <p:nvPr/>
        </p:nvSpPr>
        <p:spPr>
          <a:xfrm>
            <a:off x="0" y="0"/>
            <a:ext cx="762120" cy="609480"/>
          </a:xfrm>
          <a:prstGeom prst="wedgeEllipseCallout">
            <a:avLst>
              <a:gd name="adj1" fmla="val -25416"/>
              <a:gd name="adj2" fmla="val 9713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1"/>
          <p:cNvSpPr/>
          <p:nvPr/>
        </p:nvSpPr>
        <p:spPr>
          <a:xfrm>
            <a:off x="0" y="152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S創英角ｺﾞｼｯｸUB"/>
              </a:rPr>
              <a:t>記入の順番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82"/>
          <p:cNvSpPr/>
          <p:nvPr/>
        </p:nvSpPr>
        <p:spPr>
          <a:xfrm>
            <a:off x="1447920" y="838080"/>
            <a:ext cx="3047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地元でやりがいのある仕事をしたかった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民間企業より安定した職場で働きたかった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3"/>
          <p:cNvSpPr/>
          <p:nvPr/>
        </p:nvSpPr>
        <p:spPr>
          <a:xfrm>
            <a:off x="5638680" y="762120"/>
            <a:ext cx="327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できれば人と接する仕事がしたかった。やりがいをもってバリバリ働きたかった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日々業務を通じて、たくさんの人と出会い、夢は半ば実現したかな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84"/>
          <p:cNvSpPr/>
          <p:nvPr/>
        </p:nvSpPr>
        <p:spPr>
          <a:xfrm>
            <a:off x="7696080" y="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HGS創英角ｺﾞｼｯｸUB"/>
              </a:rPr>
              <a:t>事前学習課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85"/>
          <p:cNvSpPr/>
          <p:nvPr/>
        </p:nvSpPr>
        <p:spPr>
          <a:xfrm>
            <a:off x="457200" y="6553080"/>
            <a:ext cx="76320" cy="304920"/>
          </a:xfrm>
          <a:custGeom>
            <a:avLst/>
            <a:gdLst>
              <a:gd name="textAreaLeft" fmla="*/ 48960 w 76320"/>
              <a:gd name="textAreaRight" fmla="*/ 76320 w 7632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86"/>
          <p:cNvSpPr/>
          <p:nvPr/>
        </p:nvSpPr>
        <p:spPr>
          <a:xfrm>
            <a:off x="0" y="647712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記入不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7"/>
          <p:cNvSpPr/>
          <p:nvPr/>
        </p:nvSpPr>
        <p:spPr>
          <a:xfrm>
            <a:off x="533520" y="15238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8"/>
          <p:cNvSpPr/>
          <p:nvPr/>
        </p:nvSpPr>
        <p:spPr>
          <a:xfrm>
            <a:off x="6781680" y="57913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第一子出産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895480" y="0"/>
            <a:ext cx="4191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5000"/>
              <a:buFont typeface="Wingdings" charset="2"/>
              <a:buChar char="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ＤＦＰPOP体"/>
                <a:ea typeface="ＤＦＰPOP体"/>
              </a:rPr>
              <a:t>これまでの自分をふりかえろ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6553080" y="0"/>
            <a:ext cx="25909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　　　　　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2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年　　月　　日（　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氏名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720" y="457200"/>
            <a:ext cx="8991000" cy="5867280"/>
            <a:chOff x="720" y="457200"/>
            <a:chExt cx="8991000" cy="5867280"/>
          </a:xfrm>
        </p:grpSpPr>
        <p:sp>
          <p:nvSpPr>
            <p:cNvPr id="135" name="Rectangle 5"/>
            <p:cNvSpPr/>
            <p:nvPr/>
          </p:nvSpPr>
          <p:spPr>
            <a:xfrm>
              <a:off x="152280" y="457200"/>
              <a:ext cx="8839440" cy="5867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6"/>
            <p:cNvSpPr/>
            <p:nvPr/>
          </p:nvSpPr>
          <p:spPr>
            <a:xfrm>
              <a:off x="1216080" y="1219680"/>
              <a:ext cx="0" cy="5104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7"/>
            <p:cNvSpPr/>
            <p:nvPr/>
          </p:nvSpPr>
          <p:spPr>
            <a:xfrm>
              <a:off x="1625760" y="1219680"/>
              <a:ext cx="0" cy="5104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8"/>
            <p:cNvSpPr/>
            <p:nvPr/>
          </p:nvSpPr>
          <p:spPr>
            <a:xfrm>
              <a:off x="2035080" y="1219680"/>
              <a:ext cx="0" cy="5104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9"/>
            <p:cNvSpPr/>
            <p:nvPr/>
          </p:nvSpPr>
          <p:spPr>
            <a:xfrm>
              <a:off x="2444760" y="1219680"/>
              <a:ext cx="0" cy="5104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10"/>
            <p:cNvSpPr/>
            <p:nvPr/>
          </p:nvSpPr>
          <p:spPr>
            <a:xfrm>
              <a:off x="3262320" y="1219680"/>
              <a:ext cx="0" cy="5104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11"/>
            <p:cNvSpPr/>
            <p:nvPr/>
          </p:nvSpPr>
          <p:spPr>
            <a:xfrm>
              <a:off x="2852640" y="1219680"/>
              <a:ext cx="0" cy="5104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12"/>
            <p:cNvSpPr/>
            <p:nvPr/>
          </p:nvSpPr>
          <p:spPr>
            <a:xfrm>
              <a:off x="3672000" y="1219680"/>
              <a:ext cx="0" cy="5104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3"/>
            <p:cNvSpPr/>
            <p:nvPr/>
          </p:nvSpPr>
          <p:spPr>
            <a:xfrm>
              <a:off x="4489560" y="1219680"/>
              <a:ext cx="0" cy="5104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14"/>
            <p:cNvSpPr/>
            <p:nvPr/>
          </p:nvSpPr>
          <p:spPr>
            <a:xfrm>
              <a:off x="4081320" y="1219680"/>
              <a:ext cx="0" cy="5104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15"/>
            <p:cNvSpPr/>
            <p:nvPr/>
          </p:nvSpPr>
          <p:spPr>
            <a:xfrm>
              <a:off x="4898880" y="1219680"/>
              <a:ext cx="0" cy="5104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16"/>
            <p:cNvSpPr/>
            <p:nvPr/>
          </p:nvSpPr>
          <p:spPr>
            <a:xfrm>
              <a:off x="5308560" y="1219680"/>
              <a:ext cx="0" cy="5104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17"/>
            <p:cNvSpPr/>
            <p:nvPr/>
          </p:nvSpPr>
          <p:spPr>
            <a:xfrm>
              <a:off x="5718240" y="1219680"/>
              <a:ext cx="0" cy="5104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18"/>
            <p:cNvSpPr/>
            <p:nvPr/>
          </p:nvSpPr>
          <p:spPr>
            <a:xfrm>
              <a:off x="6127920" y="1219680"/>
              <a:ext cx="0" cy="5104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19"/>
            <p:cNvSpPr/>
            <p:nvPr/>
          </p:nvSpPr>
          <p:spPr>
            <a:xfrm>
              <a:off x="6535800" y="1219680"/>
              <a:ext cx="0" cy="5104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20"/>
            <p:cNvSpPr/>
            <p:nvPr/>
          </p:nvSpPr>
          <p:spPr>
            <a:xfrm>
              <a:off x="6945480" y="1219680"/>
              <a:ext cx="0" cy="5104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21"/>
            <p:cNvSpPr/>
            <p:nvPr/>
          </p:nvSpPr>
          <p:spPr>
            <a:xfrm>
              <a:off x="7354800" y="1219680"/>
              <a:ext cx="0" cy="5104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22"/>
            <p:cNvSpPr/>
            <p:nvPr/>
          </p:nvSpPr>
          <p:spPr>
            <a:xfrm>
              <a:off x="7764480" y="1219680"/>
              <a:ext cx="0" cy="5104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23"/>
            <p:cNvSpPr/>
            <p:nvPr/>
          </p:nvSpPr>
          <p:spPr>
            <a:xfrm>
              <a:off x="8172360" y="1219680"/>
              <a:ext cx="0" cy="5104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24"/>
            <p:cNvSpPr/>
            <p:nvPr/>
          </p:nvSpPr>
          <p:spPr>
            <a:xfrm>
              <a:off x="8582040" y="1219680"/>
              <a:ext cx="0" cy="5104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25"/>
            <p:cNvSpPr/>
            <p:nvPr/>
          </p:nvSpPr>
          <p:spPr>
            <a:xfrm>
              <a:off x="152280" y="1219680"/>
              <a:ext cx="883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26"/>
            <p:cNvSpPr/>
            <p:nvPr/>
          </p:nvSpPr>
          <p:spPr>
            <a:xfrm>
              <a:off x="152280" y="1599480"/>
              <a:ext cx="883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27"/>
            <p:cNvSpPr/>
            <p:nvPr/>
          </p:nvSpPr>
          <p:spPr>
            <a:xfrm>
              <a:off x="152280" y="3047040"/>
              <a:ext cx="883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28"/>
            <p:cNvSpPr/>
            <p:nvPr/>
          </p:nvSpPr>
          <p:spPr>
            <a:xfrm>
              <a:off x="152280" y="4190760"/>
              <a:ext cx="883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29"/>
            <p:cNvSpPr/>
            <p:nvPr/>
          </p:nvSpPr>
          <p:spPr>
            <a:xfrm>
              <a:off x="152280" y="5410440"/>
              <a:ext cx="883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30"/>
            <p:cNvSpPr/>
            <p:nvPr/>
          </p:nvSpPr>
          <p:spPr>
            <a:xfrm>
              <a:off x="183240" y="1599480"/>
              <a:ext cx="3628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元気度・満足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31"/>
            <p:cNvSpPr/>
            <p:nvPr/>
          </p:nvSpPr>
          <p:spPr>
            <a:xfrm>
              <a:off x="720" y="3047040"/>
              <a:ext cx="545400" cy="11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担当した仕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32"/>
            <p:cNvSpPr/>
            <p:nvPr/>
          </p:nvSpPr>
          <p:spPr>
            <a:xfrm>
              <a:off x="720" y="4190760"/>
              <a:ext cx="5454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身につけた能力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33"/>
            <p:cNvSpPr/>
            <p:nvPr/>
          </p:nvSpPr>
          <p:spPr>
            <a:xfrm>
              <a:off x="762120" y="2273040"/>
              <a:ext cx="8184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34"/>
            <p:cNvSpPr/>
            <p:nvPr/>
          </p:nvSpPr>
          <p:spPr>
            <a:xfrm>
              <a:off x="479520" y="159948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35"/>
            <p:cNvSpPr/>
            <p:nvPr/>
          </p:nvSpPr>
          <p:spPr>
            <a:xfrm>
              <a:off x="479520" y="274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－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36"/>
            <p:cNvSpPr/>
            <p:nvPr/>
          </p:nvSpPr>
          <p:spPr>
            <a:xfrm>
              <a:off x="179280" y="838080"/>
              <a:ext cx="366840" cy="68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37"/>
            <p:cNvSpPr/>
            <p:nvPr/>
          </p:nvSpPr>
          <p:spPr>
            <a:xfrm>
              <a:off x="152280" y="457200"/>
              <a:ext cx="88394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入庁の理由　　　　　　　　　　　　　　　　　　　　　　　入庁時の夢　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　　　　　　　　　　　　　　　　　　　　　　　　夢の行方　　　　　　　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38"/>
            <p:cNvSpPr/>
            <p:nvPr/>
          </p:nvSpPr>
          <p:spPr>
            <a:xfrm>
              <a:off x="720" y="5561640"/>
              <a:ext cx="54540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私生活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39"/>
            <p:cNvSpPr/>
            <p:nvPr/>
          </p:nvSpPr>
          <p:spPr>
            <a:xfrm>
              <a:off x="762120" y="1219680"/>
              <a:ext cx="0" cy="5104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Text Box 40"/>
          <p:cNvSpPr/>
          <p:nvPr/>
        </p:nvSpPr>
        <p:spPr>
          <a:xfrm>
            <a:off x="152280" y="647712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なたの傾向：＋の要因　　　　　　　　　　　　　　　　　　　　　－の要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1"/>
          <p:cNvSpPr/>
          <p:nvPr/>
        </p:nvSpPr>
        <p:spPr>
          <a:xfrm>
            <a:off x="152280" y="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HGS創英角ｺﾞｼｯｸUB"/>
              </a:rPr>
              <a:t>事前学習課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2"/>
          <p:cNvSpPr/>
          <p:nvPr/>
        </p:nvSpPr>
        <p:spPr>
          <a:xfrm>
            <a:off x="228600" y="13636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11:08:01Z</dcterms:created>
  <dc:creator>user01</dc:creator>
  <dc:description/>
  <dc:language>en-US</dc:language>
  <cp:lastModifiedBy>山本 香織</cp:lastModifiedBy>
  <dcterms:modified xsi:type="dcterms:W3CDTF">2025-06-23T02:10:40Z</dcterms:modified>
  <cp:revision>21</cp:revision>
  <dc:subject/>
  <dc:title>PowerPoint プレゼンテーション</dc:title>
</cp:coreProperties>
</file>