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79AF3-D13C-4F17-9206-76DC147B16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6985A-3672-4F2A-A863-B08F7EBEBD6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E454-F7A8-4403-9C4F-EBCF06695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0948-3185-4A81-A858-5A52E0B98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A1F4-7F5B-4C90-AD88-3F8132801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2395-87A9-493E-9513-5957D72AD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85C3-BD02-4AB8-B875-F7223D224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79A9-A311-41F8-B971-499D2C7B6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597D-4D20-4B69-A240-AF25C1A21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80C1-6B5C-44E4-9522-FAAF907BB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3184-B56E-4B92-AE4D-629C6C604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EA19-26D0-466B-B168-10EA5C3DA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C3B1-E18F-433C-8D22-A0B959935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C16F-0485-4641-A2C3-0AE2E62A0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63CA4-1196-441E-B972-10B576771C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0" y="304920"/>
            <a:ext cx="685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HG創英角ｺﾞｼｯｸUB"/>
              </a:rPr>
              <a:t>さんへの期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0" y="609480"/>
            <a:ext cx="685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　　　　　　　　　　　　　　　　　　　　　　　　記入者　所属：　　　　　　　　　　　　　氏名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228600" y="990720"/>
            <a:ext cx="6629400" cy="63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HG創英角ｺﾞｼｯｸUB"/>
              </a:rPr>
              <a:t>１　（　）年間、あなたと働いてきて（上司として、あなたを見て）の感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HG創英角ｺﾞｼｯｸUB"/>
              </a:rPr>
              <a:t>２　あなたの強みや評価したい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HG創英角ｺﾞｼｯｸUB"/>
              </a:rPr>
              <a:t>　　①強みとなる行動特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HG創英角ｺﾞｼｯｸUB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HG創英角ｺﾞｼｯｸUB"/>
              </a:rPr>
              <a:t>　　②強みとなる能力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HG創英角ｺﾞｼｯｸUB"/>
              </a:rPr>
              <a:t>３　今後の期待　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HG創英角ｺﾞｼｯｸUB"/>
              </a:rPr>
              <a:t>　　①個人としての５年後の活躍の姿やイメー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HG創英角ｺﾞｼｯｸUB"/>
              </a:rPr>
              <a:t>　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HG創英角ｺﾞｼｯｸUB"/>
              </a:rPr>
              <a:t>　　②上記を実現させるために、必要な行動や伸ばして欲しい能力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Object 8"/>
          <p:cNvGraphicFramePr/>
          <p:nvPr/>
        </p:nvGraphicFramePr>
        <p:xfrm>
          <a:off x="380880" y="228600"/>
          <a:ext cx="838440" cy="79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28600"/>
                    <a:ext cx="838440" cy="7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テキスト ボックス 1"/>
          <p:cNvSpPr/>
          <p:nvPr/>
        </p:nvSpPr>
        <p:spPr>
          <a:xfrm>
            <a:off x="244440" y="8472600"/>
            <a:ext cx="63691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0000"/>
                </a:solidFill>
                <a:latin typeface="BIZ UDPゴシック"/>
                <a:ea typeface="BIZ UDPゴシック"/>
              </a:rPr>
              <a:t>【</a:t>
            </a:r>
            <a:r>
              <a:rPr b="1" lang="ja-JP" sz="1100" spc="-1" strike="noStrike">
                <a:solidFill>
                  <a:srgbClr val="ff0000"/>
                </a:solidFill>
                <a:latin typeface="BIZ UDPゴシック"/>
                <a:ea typeface="BIZ UDPゴシック"/>
              </a:rPr>
              <a:t>記入される上司の方へのお願い</a:t>
            </a:r>
            <a:r>
              <a:rPr b="1" lang="en-US" sz="1100" spc="-1" strike="noStrike">
                <a:solidFill>
                  <a:srgbClr val="ff0000"/>
                </a:solidFill>
                <a:latin typeface="BIZ UDPゴシック"/>
                <a:ea typeface="BIZ UDPゴシック"/>
              </a:rPr>
              <a:t>】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ff0000"/>
                </a:solidFill>
                <a:latin typeface="BIZ UDPゴシック"/>
                <a:ea typeface="BIZ UDPゴシック"/>
              </a:rPr>
              <a:t>　御記入・御入力の上、中身が分からないように</a:t>
            </a:r>
            <a:r>
              <a:rPr b="1" lang="ja-JP" sz="1100" spc="-1" strike="noStrike" u="sng">
                <a:solidFill>
                  <a:srgbClr val="ff0000"/>
                </a:solidFill>
                <a:uFillTx/>
                <a:latin typeface="BIZ UDPゴシック"/>
                <a:ea typeface="BIZ UDPゴシック"/>
              </a:rPr>
              <a:t>封筒に入れてのりづけ</a:t>
            </a:r>
            <a:r>
              <a:rPr b="1" lang="ja-JP" sz="1100" spc="-1" strike="noStrike">
                <a:solidFill>
                  <a:srgbClr val="ff0000"/>
                </a:solidFill>
                <a:latin typeface="BIZ UDPゴシック"/>
                <a:ea typeface="BIZ UDPゴシック"/>
              </a:rPr>
              <a:t>していただき、受講者へお渡しください。よろしくお願いいたします。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8T11:43:30Z</dcterms:created>
  <dc:creator>TAS</dc:creator>
  <dc:description/>
  <dc:language>en-US</dc:language>
  <cp:lastModifiedBy>山本 香織</cp:lastModifiedBy>
  <dcterms:modified xsi:type="dcterms:W3CDTF">2025-06-23T02:09:19Z</dcterms:modified>
  <cp:revision>9</cp:revision>
  <dc:subject/>
  <dc:title>PowerPoint プレゼンテーション</dc:title>
</cp:coreProperties>
</file>